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6.tif" ContentType="image/tiff"/>
  <Override PartName="/ppt/media/image25.tif" ContentType="image/tiff"/>
  <Override PartName="/ppt/media/image17.png" ContentType="image/png"/>
  <Override PartName="/ppt/media/image24.tif" ContentType="image/tif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B0FD-CAAA-4017-99DA-A6E8233BC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61976-AA36-425C-9AA2-A91FDD6F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04BF6B-119E-43CD-9D58-44EACD28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05BA2-0DFB-4CD0-9EC2-DACC7358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DF6397-CEC3-4502-9A7D-920243CE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7C0AB2-0D12-488C-8C1C-B8F4202A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0CFE96-F9DF-4099-8EA2-92180232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14C97-8599-4329-85E7-9F302473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A63477-FA04-4765-AA5B-7949CEE1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D59E76-7086-43C1-961E-B2E237EA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2C4C0A-24BE-4349-BE8E-C5212D82D1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DF489-3D88-4BCF-A03C-1133DB71C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6AF9-EC33-4747-BC7F-A4020765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C1754-E192-4E88-A214-ECF7B7CE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A051-59F0-408C-8852-8838A624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7F8CE-1FB9-4186-B3DF-D316F365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6082-1F7D-4F43-B37B-B905791F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7C8FF-0A2B-44B2-8480-23AA678D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FCD8B-BD0B-46D5-BAAD-1F51B80C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27044-3DE6-4E3E-BE12-2E6F018B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DDF6B-E4F0-4567-80D7-D3F8768F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2526D-6BC5-4366-B4FE-6AF78F3E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34CE2-8A37-48E1-8044-BD3A631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03C2-0267-40E3-9F5E-D73AF2BD10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73E49-D08D-4869-96DF-EEFDCCC8C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90D9B-50AB-4363-8A17-6A8C94A1B4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5FC9F-9F72-4B01-B86B-B012F303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4FF997-0A7E-4CE9-8960-06C50CDF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C64765-4A70-436C-AA1D-B0874787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1656E2-3920-4646-A846-E7E46C03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2208C7-86C5-423C-83DE-6D354D1E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58281-15D0-49A2-824B-CEF8F93B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E274D-8E42-4B8F-BC8D-8B6A07F5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7EC7CC-BB67-4208-A5AD-163E1392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7DAE0-931A-47C1-8823-8A8B50F4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BC335-75D2-4F59-84E5-E39FEE89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78DBA2-1F06-4F72-80FE-DBCD079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EDCED9-F125-4897-8D5A-2BCD92B9AC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64B84-E253-4797-A00F-A1D2FF1324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BFC5B-060D-4452-8498-3A45E63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7FFE6-3D62-43B4-BC52-4685CF11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AFCF5-1DDA-4772-8019-5D370ABA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9D75A-F40C-415B-8D9F-5B8B04A4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861CF-DC46-4EAB-830B-E04C1A8B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5DE36-1675-4C19-8514-14F0744A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62153-E762-4E8F-B1A4-23D35A6C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D1B92-C9FB-4E1D-86B4-1C4233AD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FAF7B-3F6B-4EE2-AC82-34CE9506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C0009-1446-4C1B-AA18-8065D2EC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5FF2C-6C4E-4011-B396-966DA86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CBE09-4CC5-4129-BFB0-4F1E74C07A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54686-622A-4DB0-A653-1CFEC74D2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61620-7E26-4309-9479-B2F56EBF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C4E2E-306D-43F7-B955-FB68958A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99408-C622-4C21-A215-A5162A9F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EA71C-106D-4C91-8165-3D721925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39424-6888-47AC-A373-2BBBEB12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18462-E024-412A-ACEC-F41A7DCA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0F576-B006-4A34-BD86-574795A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B59B8-EF88-4A44-BC88-656707F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23891-57CF-4BF2-8CC4-F083A1E1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44F76-C48D-47DD-914A-0D50A0C6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B7CEA-B32B-4CBB-8CDA-24F56F3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CDBC0-EF16-4128-A5D8-D04B3A641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99F26-C404-41B9-A50F-CA89FE40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5A00E-3694-45E2-8D26-856C0A3A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10147-26E5-4A5E-98CD-D97C6AB5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06675-6155-4362-B362-0FFD47E4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31397-A2B1-41B1-9517-245D23D3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EB212-3B3C-4761-A956-511FFA93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209EE-F3B7-48FA-BF58-255789D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BD5C1-C5E2-4B80-93C9-C8741106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424DA-A745-418A-BFCD-C7D0C98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ABBE4-D11A-43A8-BF2D-18BE99D8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8E280-3221-43E0-B7EE-7D1A69BA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35405-537A-4CE9-ADAB-DE2DA0FC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256E5-27D0-4E44-ABAA-CCD9397D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71844-EAFB-46C1-B8D9-4BA1D9F3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38C2C-45A2-4B18-A8A2-FAFB1056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BD664-2E54-4236-B664-E3B78331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98E1E-8CAD-41AC-B16C-6C293F29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8A023-0E37-4E93-AF5F-891E19AB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73DF0-07D1-42EE-8700-7A0280AD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A8248-38AC-4477-9D80-119A362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79991-ED13-4D2E-BFA6-A080C4A8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2D47F-94DD-4FE6-88BA-FFADBC8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7227D-8ADB-4903-8ECD-3C29F86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2A0B9-9E94-4423-B7E7-B326A408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2082D-DAE5-45F0-98E4-3891CEC4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33FF5-1905-4982-85C6-D057CC8A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62F3D-34C2-49A7-8F38-2E0AE04E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B627A-CE62-4EF9-BB27-434B3FC4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38D8D-7427-4361-97C9-DEBE4396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4AB1C-1179-4A1C-B331-6DDF3D64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B0033-BCA7-4555-8A7B-DEA61B18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06DAF-0CA4-43F2-8E0D-291FAB6C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A182A-E3CB-42AA-8477-1E865C86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0B24F-0E61-4F59-A01F-087ABFD4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07095-B820-4EFD-9A36-C9D47D4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DDFCE-0C9F-4559-83AD-6B459521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EE2B1-E9E4-4BE8-93CD-8FF343B3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E7A01-F086-43F9-8780-C53851F5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EE558-ED6F-4F52-B8D8-B00BDD05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6E1CD-05F9-4513-9118-00E2DA1E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7BA9C-3595-498E-A133-B11D1FFA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9C27C-25D9-4292-AB32-954AEFD1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9A360-7E13-46CD-AC2D-AF760EAC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5C2E7-8C1C-4BFD-AE1C-65A1C547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879C4-B02C-4143-BDB6-E81CD46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0F9E0-BBCF-48EE-A798-E1F8B457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EA038-F032-4B99-801C-C109AE0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0358-E3BF-4783-8D98-FC2974B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53831-670A-4503-A28C-B76791A4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CA1FB-899B-47BC-950A-2BEE561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867EA-4DAB-423F-BB8B-8D432AC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86D64-1849-4634-B31C-FEDEF89E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F99E9-920F-457C-8B1B-7E40308C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0F77C-182C-4F14-91A8-E8EB3B5A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936C1-7E9C-46ED-8926-34785DB7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9FC36-58A5-45BF-B656-6D61B1D1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A44A6-8C70-40E8-88F0-DB8CF0D1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890E8-1269-4CC2-A268-8E9483BE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662D6-B01F-4F59-9CFC-BAB3920A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B528C-B7EF-48BE-99C7-2B60540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79B58-8FD7-4996-BD66-2F134853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1CF81-48E5-441E-ADDE-F238643C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CEA4B-2412-4E0E-864F-4D0C27EC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BECFA-1AD7-4FDC-84A1-8FC608B0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13662-CF51-4415-9D06-BBFC35CC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B1C4C-A933-4368-AB74-5436213D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80C5A-D781-480F-B72A-25429982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C89DC-9CF8-4C19-952C-4033F74A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2AE3B-8536-4884-82BE-56ED6754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0C5D2-BEEA-4765-9944-50DC2658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67E35-90E8-453E-B3B6-7F166ED0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B69186-386B-4ED3-84EB-19E24AC9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CDEE9-4FC3-4358-834E-AE3D6C09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BE200-323D-4CFB-9555-ED5B6CAA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0D611-F26D-4BCF-9BC0-8FF42593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C2E0A-B752-48B2-A86B-60A2478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CDE85-9602-4CE8-9152-7721621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68F65-AF6C-4664-812C-E6E2E07E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23082-8605-4F16-B8A0-B10A6B06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1F981-86A0-47A4-8278-E9ED2104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5A80E-65D0-4169-AB24-19F6B04D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46FDF-AD0C-4A52-9130-2C794412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48654-4AA9-4F34-8339-95EF1EEC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A78B6-1107-4A85-BBB9-7FF65001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B05A2-76CF-4536-8C67-FD99FB84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4F9EB5-1748-438D-8667-700E30DC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8CD15-FAA7-47AE-BAB3-0A288FEE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5377C-BA90-41D7-9DB3-8D0DF96F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703B8-4A8A-43A7-B476-91F2D71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50658-67A2-46B7-A28F-FFC917E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EA86E5-0AB8-412D-AA63-6B5F8AFC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895E6-9DD0-4E08-9515-C59B3A8D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5A952-F5AC-40A4-8ABB-19622B3A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C21CA-C78D-4961-93CB-9BB14947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A891B2-4922-4795-A9DC-9DFB3D5E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80777-C210-4D02-A4DA-AE63FD1A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B15DA-D807-41FC-B292-77A459DE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50100-6A58-4EE7-A87C-9F69BF9F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2F7F4-703B-4A3F-A22A-2199A807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C259E-9554-4D72-B2C5-3D1420B4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9A753-3C54-468C-B037-97984FA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33258-5D9F-43FB-B2F9-3EDB69D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16464-8F90-4552-A85C-9203B158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9F62D-C0F2-40EE-873D-533FB2045A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703F1-ED92-40E0-81D0-0F76F6A1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D64D7-8258-4B99-A253-EC2A0BDE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E1D65-6CE0-4DDB-B859-4D9EE484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5283E1-9D33-41F8-9B24-022BE382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8F6661-0456-42F8-9D7F-03F4408D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C575E-6F64-4053-BEA5-7A2D2C92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2BF398-BF54-4A41-80BB-4CF798F2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30B8E-BB67-403D-9DA0-26F957CF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357E7-B822-41FC-937D-DD73410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3F29D-C926-4EE7-9D71-0A2FB7F6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66CCF-92EC-4BAB-80AC-A575B40A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E86FD-CE34-46BE-9E99-DE13220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EBCDE-27F1-4829-AA49-8D56E16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6F394-21CB-4878-9736-8B5623CF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2087D-541B-4751-A3C0-0EB622AB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ED06B-F8AF-469A-801B-DB270032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9F2EC-5175-4230-A10E-7F58FDA2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17C05-7978-41EE-B2A2-49117E71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1A261B-D501-401D-8153-8998B4F6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C361D-04E9-4ACA-9C33-0817AD3B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86EDE-BC29-43AA-A71C-FC372506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33BAA-7E88-4223-92D3-D19C92F6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6000D8-D9D5-46E8-A71E-D6386F3E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028A1-453D-44B7-91CC-FD55CAC9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B9633-0F60-4B06-BDF9-B1F7073A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FA21B-0896-4E30-B3E5-1CD29C32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5898F6-0E41-4439-9326-758DE3CD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44E88-8877-4510-A94C-6954C724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30A4E-409D-4B69-87A6-27926CBC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A3E3EB-59A3-4927-A289-DB0FB1DD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F8313-C34A-4B54-A266-F05D1B62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5DCF5D-9634-462B-8A54-615ABAA3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7CD7B0-ED0A-422E-9FE0-60EB8C94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AF0B7-6C5A-406E-89F4-D8AB66EA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E3236-4B0E-4135-8BA6-F7E70B2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503A3B-24DD-498E-90AE-0BBA9882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13E411-1DC3-4141-A71B-F1A65F8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41F49-B44C-46A4-9B9C-506FFF4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4F0369-7FEA-455B-A588-9A9EA32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3E920-2427-4F6A-BF17-F7BAD90B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CF1AF-8F18-4A44-B301-20A7E307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8F965-9AF4-4EAF-B7D7-C7376CA7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D89E3-C1B6-4DD6-8761-8ECE0DDC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10A2-26A6-40AD-8239-63DCB70F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69424-7906-4D37-BA33-510FA957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6052F-0723-4FE7-948D-6B1CCE5A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4F5DF-AC40-4532-8C05-2BB221C5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90DE6-22C6-4160-9166-EAD9A18D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6BE932-F7E5-428F-9F30-4C24496D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4DCD6-E7F1-4EA3-9DDA-5E1D64A9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86E12-02E7-4F76-97D0-D3869913EB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09C6-E44B-424D-A5A0-F247A1A37B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79E2-0821-40BC-8EBE-D3EC0D4B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4BE0-9292-41AB-9588-1C2EE15E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29BB-8DD6-4FA6-ADFE-02319A75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C12A-231A-44BF-AB13-F3398B3B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50E4-8055-4EB4-AC68-4B2B1457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3257-57C0-4C13-9547-E9A9EF96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4170-7EE1-4512-BD4C-4917D7CC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D0B8-F7F4-4821-B2B7-85C0FCE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373E1-62FC-480D-9207-79BE27C1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EC63-27D4-42F7-81C2-840BC550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22A9-50AC-403F-A6B5-56DF8C5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D86F-1617-4200-A6C2-F76BB7265E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F2841-105F-4F84-A9C0-11E3302609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6CF2-F234-49E7-A2EB-BAE3500C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B4069-CB5D-452B-8E3B-959E7580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9A83E-F409-47EB-ADF6-F39B4C59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A1811-E37E-4ACA-B647-EC8411CE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506EB-1804-4CB7-B4FC-B3106AC5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6CB13-F547-401E-BF8F-B70E9CBC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83D96-7B9A-4BAF-9A27-007AC3F8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2404A-E682-4572-B643-C4532076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43FF1-6026-41BC-B02D-B6364588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26252-4BC8-40E4-AAB0-0FBB7F1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D3874-7BD6-48B9-89F2-7EB58046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B6F7-189E-4BC0-B4E4-ECDD57EA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EDAEB-AE18-4B69-A71C-A958D04DE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6A6067-1C26-4EAD-A499-15C0C656BA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6D5062-AE80-42E7-A396-1744BA52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345EC4-269F-43A1-9205-028C6FF5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A6AD65-50A3-4A00-8D20-73BF9F59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984885-865D-4503-9732-F0C6B0E9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5420D-C24B-4D08-8F4D-A5E993FF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00F7C6-1656-4B79-AF28-626ADF82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20089-41CB-4A97-B944-B34C5DCB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783254-7A59-4A85-A55B-929995E3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D443-519C-49CE-A327-8E39FE6C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147C6-CC0C-4CA6-9359-78D82794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E34571-AB77-4743-815F-8BDA36E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87C510-0532-438E-BAA9-98A59249D5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EF14-4171-4CF6-99BE-82293DB9E7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D860D-3303-4FDF-B4B6-06F031D2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87CBC-A27A-4892-BF59-34AF3220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FF168-9BCE-4CDC-9BCE-BED38C53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0E3F2-AE54-4A78-8E0C-1AE6CF13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8CB99-7985-43DD-89E5-D1A796AC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7040-A2CB-4D9C-BFBC-1BE7397D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A207-E296-4FE7-8E66-53ECD8B6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293C-6930-420D-9214-62CCB99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F7A4A-1577-40B8-8E60-196ED8F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661B5-6CDE-4DB0-ACC8-E1DDE758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770E-0CEA-42CE-AEB1-C4B0FDA6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2822-9FC0-440B-967B-CBDF494185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7D91D-8AA7-46B5-9396-96F9D73B3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B111D-052C-4F8A-9030-8CA65BA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92EF3-7E06-4EBB-A2D3-993CEB8D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DACC1-9EDB-4220-9CC5-DAAEB3D3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9C237-197C-44DA-9FB4-88CB121A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08EB-5DCB-4A70-81FE-2495070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A6CF0-B9AB-4E60-89A8-B7015277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506FF-F431-4B8C-932F-9D8F03A6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6F83F-98F9-4E7D-9CEA-C4A79F12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95ACC-C2AA-4C32-B947-154D2F8D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F3DDC-429A-46FA-AB6D-16CB5BF9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4B260-D865-4772-A955-E2399A72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DCC06-635E-44BD-B87C-0AAB72E717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5EF370-ACCC-4438-B1CE-24489BCF52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A11328-BE6E-4454-A019-F00D070C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192F1B-0E5D-401A-9BC8-DAE33170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B24F-BC05-4B21-8156-5AB3CCA106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8B22-2B51-42B5-928C-560D0FAA0D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B6F-8DB2-49BA-A557-87A45C6D0B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82CF-E616-4B08-B324-FFD14EC851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55B-9F59-4B47-846F-4BAD587C5E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1619-85AD-49EB-96F8-2249986C98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27FC-435E-45E9-868A-26AC1F73AA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6701-99EF-4EBB-88D1-25B12E4FE87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D235-3CF9-46FC-854F-42D12693DD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B031-EE48-4F4A-82AC-2DCC946079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8A59-459E-4B65-90BD-ACE04FF4A6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C698-D2C5-46D1-A6ED-CBDE90DB2E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E729-B566-471E-BA68-E5FB0CA619A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57CD-C402-418D-90A6-B47BD92D848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310B-CECB-43A3-AA7A-5F80E4851B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0A3A-B91C-4829-BC64-606C849AD97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B4D7-85F2-4299-AA72-700E5A9E687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EFB4-2B62-4941-805F-2282516836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C453-6261-49D3-A40A-FBB82C779F0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3F05-B52A-409A-A40A-243B7277C9C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B12-7CF4-420D-83DF-D0E6EC563B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1ED-DCED-468B-8E47-D264424979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EAB6-9801-40E8-BB7D-87639243BC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659-8F09-441D-9B39-2579F945C6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6.tif"/><Relationship Id="rId9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4.tif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5.tif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1584360" y="278748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066680" y="2706840"/>
            <a:ext cx="677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分 数 的 简 单 应 用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数的初步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3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41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9" name="文本框 3"/>
          <p:cNvSpPr/>
          <p:nvPr/>
        </p:nvSpPr>
        <p:spPr>
          <a:xfrm>
            <a:off x="365040" y="979560"/>
            <a:ext cx="79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用分数表示图中各种伞的个数占伞的总数的几分之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图片 1073743008" descr="TBRJ-14"/>
          <p:cNvPicPr/>
          <p:nvPr/>
        </p:nvPicPr>
        <p:blipFill>
          <a:blip r:embed="rId8"/>
          <a:stretch/>
        </p:blipFill>
        <p:spPr>
          <a:xfrm>
            <a:off x="1911240" y="2451240"/>
            <a:ext cx="51022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4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 Box 4"/>
          <p:cNvSpPr/>
          <p:nvPr/>
        </p:nvSpPr>
        <p:spPr>
          <a:xfrm>
            <a:off x="814320" y="1563840"/>
            <a:ext cx="7775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计算下面各题，看谁算得又快又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28"/>
          <p:cNvSpPr/>
          <p:nvPr/>
        </p:nvSpPr>
        <p:spPr>
          <a:xfrm>
            <a:off x="6461280" y="245592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4261"/>
          <p:cNvGrpSpPr/>
          <p:nvPr/>
        </p:nvGrpSpPr>
        <p:grpSpPr>
          <a:xfrm>
            <a:off x="1243080" y="2235240"/>
            <a:ext cx="2592360" cy="889920"/>
            <a:chOff x="1243080" y="2235240"/>
            <a:chExt cx="2592360" cy="889920"/>
          </a:xfrm>
        </p:grpSpPr>
        <p:grpSp>
          <p:nvGrpSpPr>
            <p:cNvPr id="1012" name="组合 4193"/>
            <p:cNvGrpSpPr/>
            <p:nvPr/>
          </p:nvGrpSpPr>
          <p:grpSpPr>
            <a:xfrm>
              <a:off x="1243080" y="2235240"/>
              <a:ext cx="360360" cy="889920"/>
              <a:chOff x="1243080" y="2235240"/>
              <a:chExt cx="360360" cy="889920"/>
            </a:xfrm>
          </p:grpSpPr>
          <p:sp>
            <p:nvSpPr>
              <p:cNvPr id="1013" name="文本框 4194"/>
              <p:cNvSpPr/>
              <p:nvPr/>
            </p:nvSpPr>
            <p:spPr>
              <a:xfrm>
                <a:off x="1243080" y="223524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文本框 4195"/>
              <p:cNvSpPr/>
              <p:nvPr/>
            </p:nvSpPr>
            <p:spPr>
              <a:xfrm>
                <a:off x="1243080" y="263520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直接连接符 4196"/>
              <p:cNvSpPr/>
              <p:nvPr/>
            </p:nvSpPr>
            <p:spPr>
              <a:xfrm>
                <a:off x="1287360" y="2692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组合 4197"/>
            <p:cNvGrpSpPr/>
            <p:nvPr/>
          </p:nvGrpSpPr>
          <p:grpSpPr>
            <a:xfrm>
              <a:off x="2011320" y="2235240"/>
              <a:ext cx="360360" cy="889920"/>
              <a:chOff x="2011320" y="2235240"/>
              <a:chExt cx="360360" cy="889920"/>
            </a:xfrm>
          </p:grpSpPr>
          <p:sp>
            <p:nvSpPr>
              <p:cNvPr id="1017" name="文本框 4198"/>
              <p:cNvSpPr/>
              <p:nvPr/>
            </p:nvSpPr>
            <p:spPr>
              <a:xfrm>
                <a:off x="2011320" y="223524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文本框 4199"/>
              <p:cNvSpPr/>
              <p:nvPr/>
            </p:nvSpPr>
            <p:spPr>
              <a:xfrm>
                <a:off x="2011320" y="263520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直接连接符 4200"/>
              <p:cNvSpPr/>
              <p:nvPr/>
            </p:nvSpPr>
            <p:spPr>
              <a:xfrm>
                <a:off x="2055600" y="2692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文本框 4201"/>
            <p:cNvSpPr/>
            <p:nvPr/>
          </p:nvSpPr>
          <p:spPr>
            <a:xfrm>
              <a:off x="1555920" y="2419200"/>
              <a:ext cx="50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文本框 4202"/>
            <p:cNvSpPr/>
            <p:nvPr/>
          </p:nvSpPr>
          <p:spPr>
            <a:xfrm>
              <a:off x="2324160" y="2431800"/>
              <a:ext cx="151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4203"/>
          <p:cNvGrpSpPr/>
          <p:nvPr/>
        </p:nvGrpSpPr>
        <p:grpSpPr>
          <a:xfrm>
            <a:off x="2778120" y="2244600"/>
            <a:ext cx="360360" cy="889920"/>
            <a:chOff x="2778120" y="2244600"/>
            <a:chExt cx="360360" cy="889920"/>
          </a:xfrm>
        </p:grpSpPr>
        <p:sp>
          <p:nvSpPr>
            <p:cNvPr id="1023" name="文本框 4204"/>
            <p:cNvSpPr/>
            <p:nvPr/>
          </p:nvSpPr>
          <p:spPr>
            <a:xfrm>
              <a:off x="2778120" y="2244600"/>
              <a:ext cx="36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文本框 4205"/>
            <p:cNvSpPr/>
            <p:nvPr/>
          </p:nvSpPr>
          <p:spPr>
            <a:xfrm>
              <a:off x="2778120" y="2644560"/>
              <a:ext cx="2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4206"/>
            <p:cNvSpPr/>
            <p:nvPr/>
          </p:nvSpPr>
          <p:spPr>
            <a:xfrm>
              <a:off x="2822400" y="27018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4225"/>
          <p:cNvGrpSpPr/>
          <p:nvPr/>
        </p:nvGrpSpPr>
        <p:grpSpPr>
          <a:xfrm>
            <a:off x="3143520" y="3348000"/>
            <a:ext cx="658440" cy="592920"/>
            <a:chOff x="3143520" y="3348000"/>
            <a:chExt cx="658440" cy="592920"/>
          </a:xfrm>
        </p:grpSpPr>
        <p:sp>
          <p:nvSpPr>
            <p:cNvPr id="1027" name="Rectangle 33"/>
            <p:cNvSpPr/>
            <p:nvPr/>
          </p:nvSpPr>
          <p:spPr>
            <a:xfrm>
              <a:off x="3143520" y="3348000"/>
              <a:ext cx="378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34"/>
            <p:cNvSpPr/>
            <p:nvPr/>
          </p:nvSpPr>
          <p:spPr>
            <a:xfrm>
              <a:off x="3436920" y="337176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组合 4262"/>
          <p:cNvGrpSpPr/>
          <p:nvPr/>
        </p:nvGrpSpPr>
        <p:grpSpPr>
          <a:xfrm>
            <a:off x="1243080" y="3146400"/>
            <a:ext cx="2592360" cy="889920"/>
            <a:chOff x="1243080" y="3146400"/>
            <a:chExt cx="2592360" cy="889920"/>
          </a:xfrm>
        </p:grpSpPr>
        <p:grpSp>
          <p:nvGrpSpPr>
            <p:cNvPr id="1030" name="组合 4263"/>
            <p:cNvGrpSpPr/>
            <p:nvPr/>
          </p:nvGrpSpPr>
          <p:grpSpPr>
            <a:xfrm>
              <a:off x="1243080" y="3146400"/>
              <a:ext cx="360360" cy="889920"/>
              <a:chOff x="1243080" y="3146400"/>
              <a:chExt cx="360360" cy="889920"/>
            </a:xfrm>
          </p:grpSpPr>
          <p:sp>
            <p:nvSpPr>
              <p:cNvPr id="1031" name="文本框 4264"/>
              <p:cNvSpPr/>
              <p:nvPr/>
            </p:nvSpPr>
            <p:spPr>
              <a:xfrm>
                <a:off x="1243080" y="314640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文本框 4265"/>
              <p:cNvSpPr/>
              <p:nvPr/>
            </p:nvSpPr>
            <p:spPr>
              <a:xfrm>
                <a:off x="1243080" y="354636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直接连接符 4266"/>
              <p:cNvSpPr/>
              <p:nvPr/>
            </p:nvSpPr>
            <p:spPr>
              <a:xfrm>
                <a:off x="1287360" y="36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组合 4267"/>
            <p:cNvGrpSpPr/>
            <p:nvPr/>
          </p:nvGrpSpPr>
          <p:grpSpPr>
            <a:xfrm>
              <a:off x="2011320" y="3146400"/>
              <a:ext cx="360360" cy="889920"/>
              <a:chOff x="2011320" y="3146400"/>
              <a:chExt cx="360360" cy="889920"/>
            </a:xfrm>
          </p:grpSpPr>
          <p:sp>
            <p:nvSpPr>
              <p:cNvPr id="1035" name="文本框 4268"/>
              <p:cNvSpPr/>
              <p:nvPr/>
            </p:nvSpPr>
            <p:spPr>
              <a:xfrm>
                <a:off x="2011320" y="314640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文本框 4269"/>
              <p:cNvSpPr/>
              <p:nvPr/>
            </p:nvSpPr>
            <p:spPr>
              <a:xfrm>
                <a:off x="2011320" y="354636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直接连接符 4270"/>
              <p:cNvSpPr/>
              <p:nvPr/>
            </p:nvSpPr>
            <p:spPr>
              <a:xfrm>
                <a:off x="2055600" y="36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文本框 4271"/>
            <p:cNvSpPr/>
            <p:nvPr/>
          </p:nvSpPr>
          <p:spPr>
            <a:xfrm>
              <a:off x="1555920" y="3330360"/>
              <a:ext cx="50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4272"/>
            <p:cNvSpPr/>
            <p:nvPr/>
          </p:nvSpPr>
          <p:spPr>
            <a:xfrm>
              <a:off x="2324160" y="3342960"/>
              <a:ext cx="151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4273"/>
          <p:cNvGrpSpPr/>
          <p:nvPr/>
        </p:nvGrpSpPr>
        <p:grpSpPr>
          <a:xfrm>
            <a:off x="2778120" y="3146400"/>
            <a:ext cx="360360" cy="889920"/>
            <a:chOff x="2778120" y="3146400"/>
            <a:chExt cx="360360" cy="889920"/>
          </a:xfrm>
        </p:grpSpPr>
        <p:sp>
          <p:nvSpPr>
            <p:cNvPr id="1041" name="文本框 4274"/>
            <p:cNvSpPr/>
            <p:nvPr/>
          </p:nvSpPr>
          <p:spPr>
            <a:xfrm>
              <a:off x="2778120" y="3146400"/>
              <a:ext cx="36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4275"/>
            <p:cNvSpPr/>
            <p:nvPr/>
          </p:nvSpPr>
          <p:spPr>
            <a:xfrm>
              <a:off x="2778120" y="3546360"/>
              <a:ext cx="2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4276"/>
            <p:cNvSpPr/>
            <p:nvPr/>
          </p:nvSpPr>
          <p:spPr>
            <a:xfrm>
              <a:off x="2822400" y="36036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组合 4317"/>
          <p:cNvGrpSpPr/>
          <p:nvPr/>
        </p:nvGrpSpPr>
        <p:grpSpPr>
          <a:xfrm>
            <a:off x="4435560" y="2235240"/>
            <a:ext cx="2716200" cy="889920"/>
            <a:chOff x="4435560" y="2235240"/>
            <a:chExt cx="2716200" cy="889920"/>
          </a:xfrm>
        </p:grpSpPr>
        <p:grpSp>
          <p:nvGrpSpPr>
            <p:cNvPr id="1045" name="组合 4293"/>
            <p:cNvGrpSpPr/>
            <p:nvPr/>
          </p:nvGrpSpPr>
          <p:grpSpPr>
            <a:xfrm>
              <a:off x="4435560" y="2235240"/>
              <a:ext cx="625320" cy="889920"/>
              <a:chOff x="4435560" y="2235240"/>
              <a:chExt cx="625320" cy="889920"/>
            </a:xfrm>
          </p:grpSpPr>
          <p:sp>
            <p:nvSpPr>
              <p:cNvPr id="1046" name="文本框 4280"/>
              <p:cNvSpPr/>
              <p:nvPr/>
            </p:nvSpPr>
            <p:spPr>
              <a:xfrm>
                <a:off x="4530960" y="2235240"/>
                <a:ext cx="4539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文本框 4281"/>
              <p:cNvSpPr/>
              <p:nvPr/>
            </p:nvSpPr>
            <p:spPr>
              <a:xfrm>
                <a:off x="4435560" y="2635200"/>
                <a:ext cx="625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直接连接符 4282"/>
              <p:cNvSpPr/>
              <p:nvPr/>
            </p:nvSpPr>
            <p:spPr>
              <a:xfrm>
                <a:off x="4535640" y="2690640"/>
                <a:ext cx="42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文本框 4287"/>
            <p:cNvSpPr/>
            <p:nvPr/>
          </p:nvSpPr>
          <p:spPr>
            <a:xfrm>
              <a:off x="4872240" y="2419200"/>
              <a:ext cx="50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文本框 4288"/>
            <p:cNvSpPr/>
            <p:nvPr/>
          </p:nvSpPr>
          <p:spPr>
            <a:xfrm>
              <a:off x="5640480" y="2431800"/>
              <a:ext cx="151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组合 4294"/>
            <p:cNvGrpSpPr/>
            <p:nvPr/>
          </p:nvGrpSpPr>
          <p:grpSpPr>
            <a:xfrm>
              <a:off x="5187960" y="2235240"/>
              <a:ext cx="625320" cy="889920"/>
              <a:chOff x="5187960" y="2235240"/>
              <a:chExt cx="625320" cy="889920"/>
            </a:xfrm>
          </p:grpSpPr>
          <p:sp>
            <p:nvSpPr>
              <p:cNvPr id="1052" name="文本框 4295"/>
              <p:cNvSpPr/>
              <p:nvPr/>
            </p:nvSpPr>
            <p:spPr>
              <a:xfrm>
                <a:off x="5283360" y="2235240"/>
                <a:ext cx="4539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文本框 4296"/>
              <p:cNvSpPr/>
              <p:nvPr/>
            </p:nvSpPr>
            <p:spPr>
              <a:xfrm>
                <a:off x="5187960" y="2635200"/>
                <a:ext cx="625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直接连接符 4297"/>
              <p:cNvSpPr/>
              <p:nvPr/>
            </p:nvSpPr>
            <p:spPr>
              <a:xfrm>
                <a:off x="5288040" y="2690640"/>
                <a:ext cx="42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4302"/>
          <p:cNvGrpSpPr/>
          <p:nvPr/>
        </p:nvGrpSpPr>
        <p:grpSpPr>
          <a:xfrm>
            <a:off x="5965920" y="2235240"/>
            <a:ext cx="688680" cy="889920"/>
            <a:chOff x="5965920" y="2235240"/>
            <a:chExt cx="688680" cy="889920"/>
          </a:xfrm>
        </p:grpSpPr>
        <p:sp>
          <p:nvSpPr>
            <p:cNvPr id="1056" name="文本框 4299"/>
            <p:cNvSpPr/>
            <p:nvPr/>
          </p:nvSpPr>
          <p:spPr>
            <a:xfrm>
              <a:off x="5965920" y="2235240"/>
              <a:ext cx="688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文本框 4300"/>
            <p:cNvSpPr/>
            <p:nvPr/>
          </p:nvSpPr>
          <p:spPr>
            <a:xfrm>
              <a:off x="5987880" y="2635200"/>
              <a:ext cx="625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直接连接符 4301"/>
            <p:cNvSpPr/>
            <p:nvPr/>
          </p:nvSpPr>
          <p:spPr>
            <a:xfrm>
              <a:off x="6087960" y="2690640"/>
              <a:ext cx="422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组合 4318"/>
          <p:cNvGrpSpPr/>
          <p:nvPr/>
        </p:nvGrpSpPr>
        <p:grpSpPr>
          <a:xfrm>
            <a:off x="4557600" y="3146400"/>
            <a:ext cx="2592360" cy="889920"/>
            <a:chOff x="4557600" y="3146400"/>
            <a:chExt cx="2592360" cy="889920"/>
          </a:xfrm>
        </p:grpSpPr>
        <p:grpSp>
          <p:nvGrpSpPr>
            <p:cNvPr id="1060" name="组合 4319"/>
            <p:cNvGrpSpPr/>
            <p:nvPr/>
          </p:nvGrpSpPr>
          <p:grpSpPr>
            <a:xfrm>
              <a:off x="4557600" y="3146400"/>
              <a:ext cx="360360" cy="889920"/>
              <a:chOff x="4557600" y="3146400"/>
              <a:chExt cx="360360" cy="889920"/>
            </a:xfrm>
          </p:grpSpPr>
          <p:sp>
            <p:nvSpPr>
              <p:cNvPr id="1061" name="文本框 4320"/>
              <p:cNvSpPr/>
              <p:nvPr/>
            </p:nvSpPr>
            <p:spPr>
              <a:xfrm>
                <a:off x="4557600" y="314640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文本框 4321"/>
              <p:cNvSpPr/>
              <p:nvPr/>
            </p:nvSpPr>
            <p:spPr>
              <a:xfrm>
                <a:off x="4557600" y="354636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直接连接符 4322"/>
              <p:cNvSpPr/>
              <p:nvPr/>
            </p:nvSpPr>
            <p:spPr>
              <a:xfrm>
                <a:off x="4601880" y="36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组合 4323"/>
            <p:cNvGrpSpPr/>
            <p:nvPr/>
          </p:nvGrpSpPr>
          <p:grpSpPr>
            <a:xfrm>
              <a:off x="5325840" y="3146400"/>
              <a:ext cx="360360" cy="889920"/>
              <a:chOff x="5325840" y="3146400"/>
              <a:chExt cx="360360" cy="889920"/>
            </a:xfrm>
          </p:grpSpPr>
          <p:sp>
            <p:nvSpPr>
              <p:cNvPr id="1065" name="文本框 4324"/>
              <p:cNvSpPr/>
              <p:nvPr/>
            </p:nvSpPr>
            <p:spPr>
              <a:xfrm>
                <a:off x="5325840" y="314640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文本框 4325"/>
              <p:cNvSpPr/>
              <p:nvPr/>
            </p:nvSpPr>
            <p:spPr>
              <a:xfrm>
                <a:off x="5325840" y="354636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直接连接符 4326"/>
              <p:cNvSpPr/>
              <p:nvPr/>
            </p:nvSpPr>
            <p:spPr>
              <a:xfrm>
                <a:off x="5370120" y="36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8" name="文本框 4327"/>
            <p:cNvSpPr/>
            <p:nvPr/>
          </p:nvSpPr>
          <p:spPr>
            <a:xfrm>
              <a:off x="4870440" y="3330360"/>
              <a:ext cx="50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文本框 4328"/>
            <p:cNvSpPr/>
            <p:nvPr/>
          </p:nvSpPr>
          <p:spPr>
            <a:xfrm>
              <a:off x="5638680" y="3342960"/>
              <a:ext cx="151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组合 4329"/>
          <p:cNvGrpSpPr/>
          <p:nvPr/>
        </p:nvGrpSpPr>
        <p:grpSpPr>
          <a:xfrm>
            <a:off x="6093000" y="3146400"/>
            <a:ext cx="360360" cy="889920"/>
            <a:chOff x="6093000" y="3146400"/>
            <a:chExt cx="360360" cy="889920"/>
          </a:xfrm>
        </p:grpSpPr>
        <p:sp>
          <p:nvSpPr>
            <p:cNvPr id="1071" name="文本框 4330"/>
            <p:cNvSpPr/>
            <p:nvPr/>
          </p:nvSpPr>
          <p:spPr>
            <a:xfrm>
              <a:off x="6093000" y="3146400"/>
              <a:ext cx="36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4331"/>
            <p:cNvSpPr/>
            <p:nvPr/>
          </p:nvSpPr>
          <p:spPr>
            <a:xfrm>
              <a:off x="6093000" y="3546360"/>
              <a:ext cx="2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直接连接符 4332"/>
            <p:cNvSpPr/>
            <p:nvPr/>
          </p:nvSpPr>
          <p:spPr>
            <a:xfrm>
              <a:off x="6137280" y="36036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组合 32"/>
          <p:cNvGrpSpPr/>
          <p:nvPr/>
        </p:nvGrpSpPr>
        <p:grpSpPr>
          <a:xfrm>
            <a:off x="1643040" y="3786120"/>
            <a:ext cx="3286080" cy="2286000"/>
            <a:chOff x="1643040" y="3786120"/>
            <a:chExt cx="3286080" cy="2286000"/>
          </a:xfrm>
        </p:grpSpPr>
        <p:sp>
          <p:nvSpPr>
            <p:cNvPr id="1075" name="椭圆 19"/>
            <p:cNvSpPr/>
            <p:nvPr/>
          </p:nvSpPr>
          <p:spPr>
            <a:xfrm>
              <a:off x="1643040" y="3786120"/>
              <a:ext cx="3286080" cy="2286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6" name="Picture 2" descr="D:\我的文档-桌面-收藏夹\桌面\9885883_100502604000_2.jpg"/>
            <p:cNvPicPr/>
            <p:nvPr/>
          </p:nvPicPr>
          <p:blipFill>
            <a:blip r:embed="rId1"/>
            <a:stretch/>
          </p:blipFill>
          <p:spPr>
            <a:xfrm>
              <a:off x="2071440" y="43038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" descr="D:\我的文档-桌面-收藏夹\桌面\9885883_100502604000_2.jpg"/>
            <p:cNvPicPr/>
            <p:nvPr/>
          </p:nvPicPr>
          <p:blipFill>
            <a:blip r:embed="rId2"/>
            <a:stretch/>
          </p:blipFill>
          <p:spPr>
            <a:xfrm>
              <a:off x="2071440" y="50004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2" descr="D:\我的文档-桌面-收藏夹\桌面\9885883_100502604000_2.jpg"/>
            <p:cNvPicPr/>
            <p:nvPr/>
          </p:nvPicPr>
          <p:blipFill>
            <a:blip r:embed="rId3"/>
            <a:stretch/>
          </p:blipFill>
          <p:spPr>
            <a:xfrm>
              <a:off x="3000240" y="43038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2" descr="D:\我的文档-桌面-收藏夹\桌面\9885883_100502604000_2.jpg"/>
            <p:cNvPicPr/>
            <p:nvPr/>
          </p:nvPicPr>
          <p:blipFill>
            <a:blip r:embed="rId4"/>
            <a:stretch/>
          </p:blipFill>
          <p:spPr>
            <a:xfrm>
              <a:off x="3000240" y="50004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2" descr="D:\我的文档-桌面-收藏夹\桌面\9885883_100502604000_2.jpg"/>
            <p:cNvPicPr/>
            <p:nvPr/>
          </p:nvPicPr>
          <p:blipFill>
            <a:blip r:embed="rId5"/>
            <a:stretch/>
          </p:blipFill>
          <p:spPr>
            <a:xfrm>
              <a:off x="3857760" y="43038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Picture 2" descr="D:\我的文档-桌面-收藏夹\桌面\9885883_100502604000_2.jpg"/>
            <p:cNvPicPr/>
            <p:nvPr/>
          </p:nvPicPr>
          <p:blipFill>
            <a:blip r:embed="rId6"/>
            <a:stretch/>
          </p:blipFill>
          <p:spPr>
            <a:xfrm>
              <a:off x="3857760" y="5000400"/>
              <a:ext cx="642960" cy="69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2" name="Picture 27" descr="43"/>
          <p:cNvPicPr/>
          <p:nvPr/>
        </p:nvPicPr>
        <p:blipFill>
          <a:blip r:embed="rId7"/>
          <a:stretch/>
        </p:blipFill>
        <p:spPr>
          <a:xfrm>
            <a:off x="1515960" y="1071720"/>
            <a:ext cx="6696000" cy="2577960"/>
          </a:xfrm>
          <a:prstGeom prst="rect">
            <a:avLst/>
          </a:prstGeom>
          <a:ln w="0">
            <a:noFill/>
          </a:ln>
        </p:spPr>
      </p:pic>
      <p:grpSp>
        <p:nvGrpSpPr>
          <p:cNvPr id="1083" name="Group 36"/>
          <p:cNvGrpSpPr/>
          <p:nvPr/>
        </p:nvGrpSpPr>
        <p:grpSpPr>
          <a:xfrm>
            <a:off x="3714840" y="1857240"/>
            <a:ext cx="657000" cy="995760"/>
            <a:chOff x="3714840" y="1857240"/>
            <a:chExt cx="657000" cy="995760"/>
          </a:xfrm>
        </p:grpSpPr>
        <p:sp>
          <p:nvSpPr>
            <p:cNvPr id="1084" name="Text Box 37"/>
            <p:cNvSpPr/>
            <p:nvPr/>
          </p:nvSpPr>
          <p:spPr>
            <a:xfrm>
              <a:off x="3714840" y="1857240"/>
              <a:ext cx="647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38"/>
            <p:cNvSpPr/>
            <p:nvPr/>
          </p:nvSpPr>
          <p:spPr>
            <a:xfrm>
              <a:off x="3724200" y="2378160"/>
              <a:ext cx="647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36"/>
          <p:cNvGrpSpPr/>
          <p:nvPr/>
        </p:nvGrpSpPr>
        <p:grpSpPr>
          <a:xfrm>
            <a:off x="7629480" y="1911240"/>
            <a:ext cx="657000" cy="941760"/>
            <a:chOff x="7629480" y="1911240"/>
            <a:chExt cx="657000" cy="941760"/>
          </a:xfrm>
        </p:grpSpPr>
        <p:sp>
          <p:nvSpPr>
            <p:cNvPr id="1087" name="Text Box 37"/>
            <p:cNvSpPr/>
            <p:nvPr/>
          </p:nvSpPr>
          <p:spPr>
            <a:xfrm>
              <a:off x="7629480" y="1911240"/>
              <a:ext cx="647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38"/>
            <p:cNvSpPr/>
            <p:nvPr/>
          </p:nvSpPr>
          <p:spPr>
            <a:xfrm>
              <a:off x="7638840" y="2378160"/>
              <a:ext cx="647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TextBox 8"/>
          <p:cNvSpPr/>
          <p:nvPr/>
        </p:nvSpPr>
        <p:spPr>
          <a:xfrm>
            <a:off x="1071720" y="571680"/>
            <a:ext cx="528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用分数表示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31"/>
          <p:cNvGrpSpPr/>
          <p:nvPr/>
        </p:nvGrpSpPr>
        <p:grpSpPr>
          <a:xfrm>
            <a:off x="857160" y="3571920"/>
            <a:ext cx="7715520" cy="2500200"/>
            <a:chOff x="857160" y="3571920"/>
            <a:chExt cx="7715520" cy="2500200"/>
          </a:xfrm>
        </p:grpSpPr>
        <p:sp>
          <p:nvSpPr>
            <p:cNvPr id="1091" name="TextBox 9"/>
            <p:cNvSpPr/>
            <p:nvPr/>
          </p:nvSpPr>
          <p:spPr>
            <a:xfrm>
              <a:off x="857160" y="385740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2" name="组合 17"/>
            <p:cNvGrpSpPr/>
            <p:nvPr/>
          </p:nvGrpSpPr>
          <p:grpSpPr>
            <a:xfrm>
              <a:off x="5214960" y="3571920"/>
              <a:ext cx="3357720" cy="2500200"/>
              <a:chOff x="5214960" y="3571920"/>
              <a:chExt cx="3357720" cy="2500200"/>
            </a:xfrm>
          </p:grpSpPr>
          <p:sp>
            <p:nvSpPr>
              <p:cNvPr id="1093" name="TextBox 10"/>
              <p:cNvSpPr/>
              <p:nvPr/>
            </p:nvSpPr>
            <p:spPr>
              <a:xfrm>
                <a:off x="5214960" y="3571920"/>
                <a:ext cx="3357720" cy="25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6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个苹果平均分成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份，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份苹果是总数的   ；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份苹果是总数的   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Text Box 51"/>
              <p:cNvSpPr/>
              <p:nvPr/>
            </p:nvSpPr>
            <p:spPr>
              <a:xfrm>
                <a:off x="7712280" y="435780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Text Box 52"/>
              <p:cNvSpPr/>
              <p:nvPr/>
            </p:nvSpPr>
            <p:spPr>
              <a:xfrm>
                <a:off x="7643880" y="475308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6" name=""/>
              <p:cNvGrpSpPr/>
              <p:nvPr/>
            </p:nvGrpSpPr>
            <p:grpSpPr>
              <a:xfrm>
                <a:off x="7715520" y="4819320"/>
                <a:ext cx="357120" cy="360"/>
                <a:chOff x="7715520" y="4819320"/>
                <a:chExt cx="357120" cy="360"/>
              </a:xfrm>
            </p:grpSpPr>
            <p:sp>
              <p:nvSpPr>
                <p:cNvPr id="1097" name="Line 53"/>
                <p:cNvSpPr/>
                <p:nvPr/>
              </p:nvSpPr>
              <p:spPr>
                <a:xfrm>
                  <a:off x="7715520" y="4819320"/>
                  <a:ext cx="357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 txBox="1"/>
                <p:nvPr/>
              </p:nvSpPr>
              <p:spPr>
                <a:xfrm>
                  <a:off x="7715520" y="4819320"/>
                  <a:ext cx="35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Text Box 51"/>
              <p:cNvSpPr/>
              <p:nvPr/>
            </p:nvSpPr>
            <p:spPr>
              <a:xfrm>
                <a:off x="7712280" y="507204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Text Box 52"/>
              <p:cNvSpPr/>
              <p:nvPr/>
            </p:nvSpPr>
            <p:spPr>
              <a:xfrm>
                <a:off x="7643880" y="539640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1" name=""/>
              <p:cNvGrpSpPr/>
              <p:nvPr/>
            </p:nvGrpSpPr>
            <p:grpSpPr>
              <a:xfrm>
                <a:off x="7715520" y="5500800"/>
                <a:ext cx="357120" cy="360"/>
                <a:chOff x="7715520" y="5500800"/>
                <a:chExt cx="357120" cy="360"/>
              </a:xfrm>
            </p:grpSpPr>
            <p:sp>
              <p:nvSpPr>
                <p:cNvPr id="1102" name="Line 53"/>
                <p:cNvSpPr/>
                <p:nvPr/>
              </p:nvSpPr>
              <p:spPr>
                <a:xfrm>
                  <a:off x="7715520" y="5500800"/>
                  <a:ext cx="357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 txBox="1"/>
                <p:nvPr/>
              </p:nvSpPr>
              <p:spPr>
                <a:xfrm>
                  <a:off x="7715520" y="5500800"/>
                  <a:ext cx="35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4" name="直接连接符 23"/>
          <p:cNvSpPr/>
          <p:nvPr/>
        </p:nvSpPr>
        <p:spPr>
          <a:xfrm>
            <a:off x="2786040" y="3857760"/>
            <a:ext cx="0" cy="21430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直接连接符 28"/>
          <p:cNvSpPr/>
          <p:nvPr/>
        </p:nvSpPr>
        <p:spPr>
          <a:xfrm>
            <a:off x="3714840" y="3857760"/>
            <a:ext cx="0" cy="21430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7" name="圆角矩形 3" descr=""/>
            <p:cNvPicPr/>
            <p:nvPr/>
          </p:nvPicPr>
          <p:blipFill>
            <a:blip r:embed="rId8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09" name="椭圆 4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椭圆 7" descr=""/>
              <p:cNvPicPr/>
              <p:nvPr/>
            </p:nvPicPr>
            <p:blipFill>
              <a:blip r:embed="rId9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1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3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4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7" name="八边形 6"/>
          <p:cNvSpPr/>
          <p:nvPr/>
        </p:nvSpPr>
        <p:spPr>
          <a:xfrm>
            <a:off x="279360" y="82224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Box 5"/>
          <p:cNvSpPr/>
          <p:nvPr/>
        </p:nvSpPr>
        <p:spPr>
          <a:xfrm>
            <a:off x="214200" y="855720"/>
            <a:ext cx="5214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分数表示下面各图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组合 3"/>
          <p:cNvGrpSpPr/>
          <p:nvPr/>
        </p:nvGrpSpPr>
        <p:grpSpPr>
          <a:xfrm>
            <a:off x="179280" y="2019240"/>
            <a:ext cx="8382240" cy="1619280"/>
            <a:chOff x="179280" y="2019240"/>
            <a:chExt cx="8382240" cy="1619280"/>
          </a:xfrm>
        </p:grpSpPr>
        <p:pic>
          <p:nvPicPr>
            <p:cNvPr id="1120" name="Picture 41" descr="未标题-5"/>
            <p:cNvPicPr/>
            <p:nvPr/>
          </p:nvPicPr>
          <p:blipFill>
            <a:blip r:embed="rId1"/>
            <a:stretch/>
          </p:blipFill>
          <p:spPr>
            <a:xfrm>
              <a:off x="179280" y="2019240"/>
              <a:ext cx="8382240" cy="1619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1" name="Group 44"/>
            <p:cNvGrpSpPr/>
            <p:nvPr/>
          </p:nvGrpSpPr>
          <p:grpSpPr>
            <a:xfrm>
              <a:off x="2679840" y="2590560"/>
              <a:ext cx="364680" cy="912600"/>
              <a:chOff x="2679840" y="2590560"/>
              <a:chExt cx="364680" cy="912600"/>
            </a:xfrm>
          </p:grpSpPr>
          <p:sp>
            <p:nvSpPr>
              <p:cNvPr id="1122" name="Text Box 42"/>
              <p:cNvSpPr/>
              <p:nvPr/>
            </p:nvSpPr>
            <p:spPr>
              <a:xfrm>
                <a:off x="2684520" y="2590560"/>
                <a:ext cx="360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Text Box 43"/>
              <p:cNvSpPr/>
              <p:nvPr/>
            </p:nvSpPr>
            <p:spPr>
              <a:xfrm>
                <a:off x="2679840" y="3028320"/>
                <a:ext cx="360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Group 52"/>
            <p:cNvGrpSpPr/>
            <p:nvPr/>
          </p:nvGrpSpPr>
          <p:grpSpPr>
            <a:xfrm>
              <a:off x="5394600" y="2590560"/>
              <a:ext cx="365040" cy="912600"/>
              <a:chOff x="5394600" y="2590560"/>
              <a:chExt cx="365040" cy="912600"/>
            </a:xfrm>
          </p:grpSpPr>
          <p:sp>
            <p:nvSpPr>
              <p:cNvPr id="1125" name="Text Box 47"/>
              <p:cNvSpPr/>
              <p:nvPr/>
            </p:nvSpPr>
            <p:spPr>
              <a:xfrm>
                <a:off x="5394600" y="2590560"/>
                <a:ext cx="360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Text Box 48"/>
              <p:cNvSpPr/>
              <p:nvPr/>
            </p:nvSpPr>
            <p:spPr>
              <a:xfrm>
                <a:off x="5399280" y="3028320"/>
                <a:ext cx="360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Group 49"/>
            <p:cNvGrpSpPr/>
            <p:nvPr/>
          </p:nvGrpSpPr>
          <p:grpSpPr>
            <a:xfrm>
              <a:off x="8030160" y="2666880"/>
              <a:ext cx="364680" cy="912600"/>
              <a:chOff x="8030160" y="2666880"/>
              <a:chExt cx="364680" cy="912600"/>
            </a:xfrm>
          </p:grpSpPr>
          <p:sp>
            <p:nvSpPr>
              <p:cNvPr id="1128" name="Text Box 50"/>
              <p:cNvSpPr/>
              <p:nvPr/>
            </p:nvSpPr>
            <p:spPr>
              <a:xfrm>
                <a:off x="8034840" y="2666880"/>
                <a:ext cx="360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Text Box 51"/>
              <p:cNvSpPr/>
              <p:nvPr/>
            </p:nvSpPr>
            <p:spPr>
              <a:xfrm>
                <a:off x="8030160" y="3104640"/>
                <a:ext cx="360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1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33" name="椭圆 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椭圆 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6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组合 3"/>
          <p:cNvGrpSpPr/>
          <p:nvPr/>
        </p:nvGrpSpPr>
        <p:grpSpPr>
          <a:xfrm>
            <a:off x="365040" y="1089000"/>
            <a:ext cx="7143480" cy="2427480"/>
            <a:chOff x="365040" y="1089000"/>
            <a:chExt cx="7143480" cy="2427480"/>
          </a:xfrm>
        </p:grpSpPr>
        <p:sp>
          <p:nvSpPr>
            <p:cNvPr id="1142" name="TextBox 16"/>
            <p:cNvSpPr/>
            <p:nvPr/>
          </p:nvSpPr>
          <p:spPr>
            <a:xfrm>
              <a:off x="365040" y="1517400"/>
              <a:ext cx="5286600" cy="12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有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，把其中的   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上红色，  涂色蓝色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51"/>
            <p:cNvSpPr/>
            <p:nvPr/>
          </p:nvSpPr>
          <p:spPr>
            <a:xfrm>
              <a:off x="3675240" y="1445400"/>
              <a:ext cx="40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52"/>
            <p:cNvSpPr/>
            <p:nvPr/>
          </p:nvSpPr>
          <p:spPr>
            <a:xfrm>
              <a:off x="3611880" y="184104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3678480" y="1907640"/>
              <a:ext cx="356760" cy="360"/>
              <a:chOff x="3678480" y="1907640"/>
              <a:chExt cx="356760" cy="360"/>
            </a:xfrm>
          </p:grpSpPr>
          <p:sp>
            <p:nvSpPr>
              <p:cNvPr id="1146" name="Line 53"/>
              <p:cNvSpPr/>
              <p:nvPr/>
            </p:nvSpPr>
            <p:spPr>
              <a:xfrm>
                <a:off x="3678480" y="1907640"/>
                <a:ext cx="35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 txBox="1"/>
              <p:nvPr/>
            </p:nvSpPr>
            <p:spPr>
              <a:xfrm>
                <a:off x="3678480" y="1907640"/>
                <a:ext cx="35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Text Box 51"/>
            <p:cNvSpPr/>
            <p:nvPr/>
          </p:nvSpPr>
          <p:spPr>
            <a:xfrm>
              <a:off x="1857240" y="2016720"/>
              <a:ext cx="40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52"/>
            <p:cNvSpPr/>
            <p:nvPr/>
          </p:nvSpPr>
          <p:spPr>
            <a:xfrm>
              <a:off x="1793880" y="24120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1860480" y="2478600"/>
              <a:ext cx="356760" cy="360"/>
              <a:chOff x="1860480" y="2478600"/>
              <a:chExt cx="356760" cy="360"/>
            </a:xfrm>
          </p:grpSpPr>
          <p:sp>
            <p:nvSpPr>
              <p:cNvPr id="1151" name="Line 53"/>
              <p:cNvSpPr/>
              <p:nvPr/>
            </p:nvSpPr>
            <p:spPr>
              <a:xfrm>
                <a:off x="1860480" y="2478600"/>
                <a:ext cx="35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1860480" y="2478600"/>
                <a:ext cx="35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等腰三角形 23"/>
            <p:cNvSpPr/>
            <p:nvPr/>
          </p:nvSpPr>
          <p:spPr>
            <a:xfrm>
              <a:off x="1579680" y="165996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椭圆 24"/>
            <p:cNvSpPr/>
            <p:nvPr/>
          </p:nvSpPr>
          <p:spPr>
            <a:xfrm>
              <a:off x="4794120" y="1089000"/>
              <a:ext cx="2714400" cy="2427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等腰三角形 25"/>
            <p:cNvSpPr/>
            <p:nvPr/>
          </p:nvSpPr>
          <p:spPr>
            <a:xfrm>
              <a:off x="5365800" y="1374480"/>
              <a:ext cx="428400" cy="428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等腰三角形 26"/>
            <p:cNvSpPr/>
            <p:nvPr/>
          </p:nvSpPr>
          <p:spPr>
            <a:xfrm>
              <a:off x="5937120" y="1374480"/>
              <a:ext cx="428400" cy="428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等腰三角形 27"/>
            <p:cNvSpPr/>
            <p:nvPr/>
          </p:nvSpPr>
          <p:spPr>
            <a:xfrm>
              <a:off x="6508800" y="1374480"/>
              <a:ext cx="428400" cy="428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等腰三角形 28"/>
            <p:cNvSpPr/>
            <p:nvPr/>
          </p:nvSpPr>
          <p:spPr>
            <a:xfrm>
              <a:off x="5365800" y="194580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等腰三角形 29"/>
            <p:cNvSpPr/>
            <p:nvPr/>
          </p:nvSpPr>
          <p:spPr>
            <a:xfrm>
              <a:off x="5937120" y="194580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等腰三角形 30"/>
            <p:cNvSpPr/>
            <p:nvPr/>
          </p:nvSpPr>
          <p:spPr>
            <a:xfrm>
              <a:off x="6508800" y="194580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等腰三角形 31"/>
            <p:cNvSpPr/>
            <p:nvPr/>
          </p:nvSpPr>
          <p:spPr>
            <a:xfrm>
              <a:off x="5365800" y="258804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等腰三角形 32"/>
            <p:cNvSpPr/>
            <p:nvPr/>
          </p:nvSpPr>
          <p:spPr>
            <a:xfrm>
              <a:off x="5937120" y="258804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等腰三角形 33"/>
            <p:cNvSpPr/>
            <p:nvPr/>
          </p:nvSpPr>
          <p:spPr>
            <a:xfrm>
              <a:off x="6508800" y="258804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67" name="椭圆 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8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椭圆 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0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TextBox 3"/>
          <p:cNvSpPr/>
          <p:nvPr/>
        </p:nvSpPr>
        <p:spPr>
          <a:xfrm>
            <a:off x="376200" y="762120"/>
            <a:ext cx="4572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小棒，取出它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组合 3"/>
          <p:cNvGrpSpPr/>
          <p:nvPr/>
        </p:nvGrpSpPr>
        <p:grpSpPr>
          <a:xfrm>
            <a:off x="4068720" y="762120"/>
            <a:ext cx="539640" cy="854640"/>
            <a:chOff x="4068720" y="762120"/>
            <a:chExt cx="539640" cy="854640"/>
          </a:xfrm>
        </p:grpSpPr>
        <p:sp>
          <p:nvSpPr>
            <p:cNvPr id="1177" name="Text Box 52"/>
            <p:cNvSpPr/>
            <p:nvPr/>
          </p:nvSpPr>
          <p:spPr>
            <a:xfrm>
              <a:off x="4068720" y="115704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组合 2"/>
            <p:cNvGrpSpPr/>
            <p:nvPr/>
          </p:nvGrpSpPr>
          <p:grpSpPr>
            <a:xfrm>
              <a:off x="4132800" y="762120"/>
              <a:ext cx="403920" cy="462240"/>
              <a:chOff x="4132800" y="762120"/>
              <a:chExt cx="403920" cy="462240"/>
            </a:xfrm>
          </p:grpSpPr>
          <p:sp>
            <p:nvSpPr>
              <p:cNvPr id="1179" name="Text Box 51"/>
              <p:cNvSpPr/>
              <p:nvPr/>
            </p:nvSpPr>
            <p:spPr>
              <a:xfrm>
                <a:off x="4132800" y="762120"/>
                <a:ext cx="40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0" name=""/>
              <p:cNvGrpSpPr/>
              <p:nvPr/>
            </p:nvGrpSpPr>
            <p:grpSpPr>
              <a:xfrm>
                <a:off x="4140720" y="1224000"/>
                <a:ext cx="356400" cy="360"/>
                <a:chOff x="4140720" y="1224000"/>
                <a:chExt cx="356400" cy="360"/>
              </a:xfrm>
            </p:grpSpPr>
            <p:sp>
              <p:nvSpPr>
                <p:cNvPr id="1181" name="Line 53"/>
                <p:cNvSpPr/>
                <p:nvPr/>
              </p:nvSpPr>
              <p:spPr>
                <a:xfrm>
                  <a:off x="4140720" y="1224000"/>
                  <a:ext cx="356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 txBox="1"/>
                <p:nvPr/>
              </p:nvSpPr>
              <p:spPr>
                <a:xfrm>
                  <a:off x="4140720" y="1224000"/>
                  <a:ext cx="35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3" name="组合 4"/>
          <p:cNvGrpSpPr/>
          <p:nvPr/>
        </p:nvGrpSpPr>
        <p:grpSpPr>
          <a:xfrm>
            <a:off x="1295280" y="1914480"/>
            <a:ext cx="5007240" cy="1884240"/>
            <a:chOff x="1295280" y="1914480"/>
            <a:chExt cx="5007240" cy="1884240"/>
          </a:xfrm>
        </p:grpSpPr>
        <p:pic>
          <p:nvPicPr>
            <p:cNvPr id="1184" name="Picture 2" descr="D:\我的文档-桌面-收藏夹\桌面\u=2432150407,3046920266&amp;fm=21&amp;gp=0.jpg"/>
            <p:cNvPicPr/>
            <p:nvPr/>
          </p:nvPicPr>
          <p:blipFill>
            <a:blip r:embed="rId1"/>
            <a:srcRect l="0" t="0" r="21583" b="0"/>
            <a:stretch/>
          </p:blipFill>
          <p:spPr>
            <a:xfrm>
              <a:off x="1295280" y="2024640"/>
              <a:ext cx="406800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Picture 2" descr="D:\我的文档-桌面-收藏夹\桌面\u=2432150407,3046920266&amp;fm=21&amp;gp=0.jpg"/>
            <p:cNvPicPr/>
            <p:nvPr/>
          </p:nvPicPr>
          <p:blipFill>
            <a:blip r:embed="rId2"/>
            <a:stretch/>
          </p:blipFill>
          <p:spPr>
            <a:xfrm>
              <a:off x="5468040" y="2032560"/>
              <a:ext cx="83448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圆角矩形 8"/>
            <p:cNvSpPr/>
            <p:nvPr/>
          </p:nvSpPr>
          <p:spPr>
            <a:xfrm>
              <a:off x="1295280" y="1914480"/>
              <a:ext cx="938160" cy="18842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884240"/>
                <a:gd name="textAreaBottom" fmla="*/ 1838520 h 1884240"/>
              </a:gdLst>
              <a:ahLst/>
              <a:rect l="textAreaLeft" t="textAreaTop" r="textAreaRight" b="textAreaBottom"/>
              <a:pathLst>
                <a:path w="21600" h="43374">
                  <a:moveTo>
                    <a:pt x="3600" y="0"/>
                  </a:moveTo>
                  <a:arcTo wR="3600" hR="3600" stAng="16200000" swAng="-5400000"/>
                  <a:lnTo>
                    <a:pt x="0" y="39774"/>
                  </a:lnTo>
                  <a:arcTo wR="3600" hR="3600" stAng="10800000" swAng="-5400000"/>
                  <a:lnTo>
                    <a:pt x="18000" y="433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圆角矩形 9"/>
            <p:cNvSpPr/>
            <p:nvPr/>
          </p:nvSpPr>
          <p:spPr>
            <a:xfrm>
              <a:off x="2338200" y="1914480"/>
              <a:ext cx="938160" cy="18842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884240"/>
                <a:gd name="textAreaBottom" fmla="*/ 1838520 h 1884240"/>
              </a:gdLst>
              <a:ahLst/>
              <a:rect l="textAreaLeft" t="textAreaTop" r="textAreaRight" b="textAreaBottom"/>
              <a:pathLst>
                <a:path w="21600" h="43374">
                  <a:moveTo>
                    <a:pt x="3600" y="0"/>
                  </a:moveTo>
                  <a:arcTo wR="3600" hR="3600" stAng="16200000" swAng="-5400000"/>
                  <a:lnTo>
                    <a:pt x="0" y="39774"/>
                  </a:lnTo>
                  <a:arcTo wR="3600" hR="3600" stAng="10800000" swAng="-5400000"/>
                  <a:lnTo>
                    <a:pt x="18000" y="433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2"/>
          <p:cNvGrpSpPr/>
          <p:nvPr/>
        </p:nvGrpSpPr>
        <p:grpSpPr>
          <a:xfrm>
            <a:off x="11160" y="81000"/>
            <a:ext cx="3244680" cy="525600"/>
            <a:chOff x="11160" y="81000"/>
            <a:chExt cx="3244680" cy="525600"/>
          </a:xfrm>
        </p:grpSpPr>
        <p:pic>
          <p:nvPicPr>
            <p:cNvPr id="1189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61640" y="810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0" name="组合 4"/>
            <p:cNvGrpSpPr/>
            <p:nvPr/>
          </p:nvGrpSpPr>
          <p:grpSpPr>
            <a:xfrm>
              <a:off x="11160" y="176760"/>
              <a:ext cx="429840" cy="271800"/>
              <a:chOff x="11160" y="176760"/>
              <a:chExt cx="429840" cy="271800"/>
            </a:xfrm>
          </p:grpSpPr>
          <p:sp>
            <p:nvSpPr>
              <p:cNvPr id="1191" name="椭圆 1"/>
              <p:cNvSpPr/>
              <p:nvPr/>
            </p:nvSpPr>
            <p:spPr>
              <a:xfrm rot="16200000">
                <a:off x="254160" y="3394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2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29320" y="3031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3" name="椭圆 29"/>
              <p:cNvSpPr/>
              <p:nvPr/>
            </p:nvSpPr>
            <p:spPr>
              <a:xfrm rot="16200000">
                <a:off x="254160" y="2134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4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320" y="1911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3193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912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44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176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组合 2"/>
          <p:cNvGrpSpPr/>
          <p:nvPr/>
        </p:nvGrpSpPr>
        <p:grpSpPr>
          <a:xfrm>
            <a:off x="11160" y="81000"/>
            <a:ext cx="3244680" cy="525600"/>
            <a:chOff x="11160" y="81000"/>
            <a:chExt cx="3244680" cy="525600"/>
          </a:xfrm>
        </p:grpSpPr>
        <p:pic>
          <p:nvPicPr>
            <p:cNvPr id="12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1640" y="810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1" name="组合 4"/>
            <p:cNvGrpSpPr/>
            <p:nvPr/>
          </p:nvGrpSpPr>
          <p:grpSpPr>
            <a:xfrm>
              <a:off x="11160" y="176040"/>
              <a:ext cx="429840" cy="273600"/>
              <a:chOff x="11160" y="176040"/>
              <a:chExt cx="429840" cy="273600"/>
            </a:xfrm>
          </p:grpSpPr>
          <p:sp>
            <p:nvSpPr>
              <p:cNvPr id="1202" name="椭圆 1"/>
              <p:cNvSpPr/>
              <p:nvPr/>
            </p:nvSpPr>
            <p:spPr>
              <a:xfrm rot="16200000">
                <a:off x="253800" y="3402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320" y="30312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椭圆 29"/>
              <p:cNvSpPr/>
              <p:nvPr/>
            </p:nvSpPr>
            <p:spPr>
              <a:xfrm rot="16200000">
                <a:off x="253800" y="21348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9320" y="1904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31968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912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0412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1760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0" name="文本框 6"/>
          <p:cNvSpPr/>
          <p:nvPr/>
        </p:nvSpPr>
        <p:spPr>
          <a:xfrm>
            <a:off x="450720" y="876240"/>
            <a:ext cx="8472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把多个物体看成一个整体来平均分，用分数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10"/>
          <p:cNvSpPr/>
          <p:nvPr/>
        </p:nvSpPr>
        <p:spPr>
          <a:xfrm>
            <a:off x="399960" y="2073240"/>
            <a:ext cx="77724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多个物体平均分成若干份，取其中的几份，也能用分数表示。平均分成几份，分母就是几；取其中的几份，分子就是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1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3" name="文本框 99"/>
          <p:cNvSpPr/>
          <p:nvPr/>
        </p:nvSpPr>
        <p:spPr>
          <a:xfrm>
            <a:off x="365040" y="93348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用分数表示下面各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4" name="图片 90" descr="TBRJ-12"/>
          <p:cNvPicPr/>
          <p:nvPr/>
        </p:nvPicPr>
        <p:blipFill>
          <a:blip r:embed="rId8"/>
          <a:stretch/>
        </p:blipFill>
        <p:spPr>
          <a:xfrm>
            <a:off x="914400" y="2022480"/>
            <a:ext cx="663264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28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6" name="文本框 99"/>
          <p:cNvSpPr/>
          <p:nvPr/>
        </p:nvSpPr>
        <p:spPr>
          <a:xfrm>
            <a:off x="441360" y="727200"/>
            <a:ext cx="60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涂色表示下面各图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图片 -2147482535" descr="TBRJ-13"/>
          <p:cNvPicPr/>
          <p:nvPr/>
        </p:nvPicPr>
        <p:blipFill>
          <a:blip r:embed="rId8"/>
          <a:stretch/>
        </p:blipFill>
        <p:spPr>
          <a:xfrm>
            <a:off x="853920" y="1344600"/>
            <a:ext cx="6999480" cy="416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24:09Z</dcterms:created>
  <dc:creator/>
  <dc:description/>
  <dc:language>en-US</dc:language>
  <cp:lastModifiedBy>万润仪器贸易公司</cp:lastModifiedBy>
  <dcterms:modified xsi:type="dcterms:W3CDTF">2020-08-21T01:37:2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